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183-529A-460A-ABF6-B5EBC3E7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31D-4D4E-427A-88B2-D2937AB0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F3C-A29F-4DCC-AB66-42949E08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146-A31F-406B-8698-B0B61D0A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BA1-726F-4099-AD0E-75001A10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4CA-0C32-4DE1-8F70-B8AAD3D2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CCDF-7910-461B-BBE5-0058B2C4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932-3767-4157-991E-B3828111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1A2-3843-4A23-B96A-41501C52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35B-A21B-4913-8BCA-3695F3B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E29-CCAA-4FC2-A2C2-DAD5727D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71C-1938-453A-A6BC-6BB0F29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CC96-DA03-46A5-B587-DF5C917A39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иск информации в интернете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е 8. Сложные запросы в ПС Янд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9298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ложные запросы: выручат скобк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 можете строить сколь угодно сложные конструкции, подставляя в каждом из операторов вместо отдельного слова целые выра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Яндекс при этом правильно понимал вас, заключайте выражения в круглые ско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ложные запрос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пореже натыкаться на уменьшение количества результатов, вызванные неверным синтаксисом, используйт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несколько прави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сегда ставьте перед стоп-словам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+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тделяйте операторы поиска в элементах от слов запроса символам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&amp;&amp;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о возможности, используйте в сложных запросах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/+1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место кавы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Анализ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сложных запросов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ий запрос на тему бокса не совсем релеванте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бокс|боксер|боксерск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евидно, что по результатам поиска будет найдено довольно много документов в том числе и не относящихся к спор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учшим запрос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ечем анекдоты, собак, чехлы для техники, душевые, больничную те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бокс|боксер|боксерский) ~~ (анекдот|собака|больничный|медицинский|душевая|чех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аст более релевантные документы. После нескольких проверок запрос можно улучшить е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624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2118960"/>
            <a:ext cx="83059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нужно найт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езюме жителей Москв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 знанием французского языка, имеющих опыт работы с Windows, Linux. При этом уровень знания французского языка имеет первостепенное знач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оим запрос —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$title(резюме) &amp;&amp; +(москва | !495) &amp;&amp; +французский &amp;&amp; +linux &amp;&amp; +window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21477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$title(резюме) &amp;&amp; +(москва | !495) &amp;&amp; +французский &amp;&amp; +linux &amp;&amp; +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«В заголовке должно быть 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резюме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в пределах одного документа – слова: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москва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ли код город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49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французский», «linux», «windows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ной словоформ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блема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20574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С так выбирает слова для аннотации результатов поиска, что 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французский» попадает в них редк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придется открывать все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французский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грает второстепенное значение, так что смысл документов не соответствует запрос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формулируе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477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воспользоваться оператором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&lt;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+французский &lt;&lt; ($title(резюме) &amp;&amp; +(москва | !495) &amp;&amp; +linux &amp;&amp; +window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перь слово «французский» будет иметь первостепенное значение для ранжирования, но при этом остальные слова тоже играют роль в результатах пои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9298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520" y="21477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ищете описание мумие, но не хотите наталкиваться на прайсы интернет-магазинов, можете задать такой за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умие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lt;&lt;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(лечение|лечебный|болезни) ~~ (цена|прайс|рубль|доллар|фирма|магази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ут найдены все страницы, где есть 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ум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также любое из слов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лечение, лечеб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олез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 нет ни одного из слов, перечисленных посл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ператора ~~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ранжирующее «И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ператор неранжирующее «И»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lt;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чень похож н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ператор определения слов в одном документе &amp;&amp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 той лишь разницей, что слово, которое находится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пра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лияет на возможность документов попасть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 результаты поис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о не влияет н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нжиров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оздайте за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поиска резюме жителя Перми, обладающего опытом верстки и предпечатной подготовки, владеющего программами графического паке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ob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оздайте за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поиска вакансии в пермских СМИ, службах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рекламных агентствах для работы по гибкому граф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Запрос пресс-службы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у журналистов и работников служ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необходимость создавать запросы для отслеживания публикаций и документов в интернете, связанных с определенной компанией и ее руковод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евидно, что в запросе должны присутствовать вс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арианты названия компа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имя руководител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улируем запрос для ПГ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пгу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пермгу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пермский /+1 (государственный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классический) /+1 университет))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amp;&amp; (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аланин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владимир /1 маланин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идно, запрос учитывает четыре варианта названия вуза и два варианта упоминания имени рект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один нюанс: в результатах поиска присутствуют документы с официального сайта университе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psu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отсечь эти документы, добавим в конце запро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~~  url=«www.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psu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.ru*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1477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йт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запрос пресс-службы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известной Вам компан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ывайте русской и английское написание названия, аббревиатуры, сокращенное и полное имя руководи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ме этого, можно ограничить запрос темой документа, упоминанием региона 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Практическое задани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«Переведи запрос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«Переведи запрос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ачала перед Вами появится запрос, описанный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естественным» язык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аша задача –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перевести» опис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язык запро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этого Вы увидите, наоборот,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формализованный за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аша задача – сделать обратный перевод н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естественный» язы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найти документы со словами «новый» или «анонсировал», или «представил», или «появился» и словами «гаджет» или «устройство», или «девайс», или «аппара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тхэквандо|тэквадно|таэквандо|тхек-ван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найти документы со словами «биография» или «жизнь» в заголовке, чтобы в тексте были слова «розинг» или «зворыкин» в точной словоформе; слова «изобретение», «телевидение», «электронно-лучевая трубка» в любой слово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ранжирующее «И» (пример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запр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Трутнев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amp;&amp;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иограф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ет документы, где указанные слова будут расположены в пределах одного документа. При этом одно из первых мест в результатах займет, например, документ, в котором будет словосочетани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биография Трутнев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(фехтование|фехтовальщик|фехто-вать) &amp;&amp; сабля) | сабл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найти документы со словами «прежнее» и «название» друг за другом или «называлась», или «переименовали»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ми «советский» и «спорт» друг за другом –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 одном предложе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спортивная /1 гимнастика | (гимнаст|гимнастка|гимнастика)) &amp;&amp; (конь|кольца|брусья|опорный /1 прыжо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зык запросов. Как искать? Помощь Яндекса. http://www.yandex.ru/search/?id=4819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ранжирующее «И» (пример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на запр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Трутне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lt;&lt;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иограф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ут найдены документы, где будут присутствовать оба слова, но 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биография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будет влиять на ранжирование 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первые мес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писке результатов поиска займут документы со словом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Трутне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74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иск текста в заголовке страниц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текста в заголовке страниц (titl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$title (запро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запрос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аксвелл &lt;&lt; $title (биография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ут найдены документы со словом «биография» в заголовке и словом «Максвелл» в текс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ем слово «Максвелл» будет определяющ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иск текста на сайт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ограничивается группой страниц, с заданным адрес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url=«www.url.ru/cat/*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кот Бублик» &lt;&lt; url=«www.exler.ru*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ет найдены все упоминания о коте Бублике на сайте www.exler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иск файл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147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граничить поиск определенным типом файла: HTML, PDF, DOC, PPT, XLS, RTF, SW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mime=«тип_фай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запро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инструкция &amp;&amp; микроволновая печь) &lt;&lt; (mime=«pdf» | mime=«rtf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ет найдены документ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DF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RTF, в теле которых присутствуют слов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инструкция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микроволновая п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пределение языка текс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отобрать для поиска документы, написанные на определенном язы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с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раин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u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лорус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b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глий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анцуз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f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ец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d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lang=«язы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DAAD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&lt;&lt; lang=«de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иск по дат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производится только по страницам, дата которых удовлетворяет заданному услов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date=«ГГГГ{*|ММ{*|ДД}}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date=«200310*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запросу будет производится поиск документов, датированных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ктябрем 2003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17:02:52Z</dcterms:created>
  <dc:creator/>
  <dc:description/>
  <dc:language>en-US</dc:language>
  <cp:lastModifiedBy/>
  <dcterms:modified xsi:type="dcterms:W3CDTF">2016-02-18T17:04:13Z</dcterms:modified>
  <cp:revision>1</cp:revision>
  <dc:subject/>
  <dc:title/>
</cp:coreProperties>
</file>